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75CC-8352-40E3-8F1B-23417028B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reference.com/Mo-Nu/Nucleotides.html#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wsu-bio101.ning.com/profiles/blogs/the-molecules-within-you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wsu-bio101.ning.com/profiles/blogs/the-molecules-within-you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.davidson.edu/Courses/Molbio/MolStudents/spring2010/Webb/a-amyla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.davidson.edu/Courses/Molbio/MolStudents/spring2010/Webb/a-amyla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l.clackamas.edu/ch106-07/sucro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l.clackamas.edu/ch106-07/sucro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elstar.ote.cmu.edu/biology/MembranePage/index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elstar.ote.cmu.edu/biology/MembranePage/index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sbooks.net/appendi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sbooks.net/appendi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roteins-structure.com/2011/09/30/amino-acid-structu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roteins-structure.com/2011/09/30/amino-acid-structu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bio.uoguelph.ca/educmat/phy456/456lec0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bio.uoguelph.ca/educmat/phy456/456lec0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ile:RNA-comparedto-DNA_thymineAndUracilCorrected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guide.co.uk/organicprops/aminoacids/dn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guide.co.uk/organicprops/aminoacids/dn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hemed.chem.purdue.edu/genchem/topicreview/bp/2organic/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hemed.chem.purdue.edu/genchem/topicreview/bp/2organic/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amster.com/answers-sep-11/chemistry/molecule-molecule-functional-groups-pr_1468775.aspx?rec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amster.com/answers-sep-11/chemistry/molecule-molecule-functional-groups-pr_1468775.aspx?rec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reference.com/Mo-Nu/Nucleotides.html#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684-B3B1-4622-932D-95BB1229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262-AB0D-4061-A7C8-5287F088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CD6-F540-466E-A245-0CEBB19E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C7D-741E-422D-90A8-0669653C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E59-D7EF-4779-AF27-073CB368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198-5374-43ED-8A61-22D83145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784-7E5B-4CBC-8D54-59922A9F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312-1969-44ED-9F11-E23C9EAF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B82-50F6-400C-A11A-1C2AE22D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25F-4516-4939-8AB4-5E8B8F51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597-1498-4370-86DC-B64573D3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C71-A81C-4F88-997C-A7DEC32A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FD12-BA71-40E6-A86F-0CD9C1569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molecul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ate, hydroxyl, amino, carbo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47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polysaccharides that are used as energy 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rch and glyc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polysaccharides that are used for structural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llulose and chi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11440" y="1981080"/>
            <a:ext cx="391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nosaccha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11440" y="1981080"/>
            <a:ext cx="391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2550960"/>
            <a:ext cx="77724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lysaccharid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it continue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2550960"/>
            <a:ext cx="77724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saccharide (sucro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ost common type of lip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ils and fats (triglycer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other types of lip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olipids, waxes, 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emical components of a triglyce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ycerol + 3 fatty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tu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satu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tty 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turated fatty acids have no double bonds between carbon atoms;  have the maximum number of H atoms attached (are fully “saturated” with H ato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 of fat is usually solid at room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turated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make an unsaturated fat solid at room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droge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05080" y="1981080"/>
            <a:ext cx="633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eroid/sterol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cholester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05080" y="1981080"/>
            <a:ext cx="633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54240" y="1981080"/>
            <a:ext cx="483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atty acid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saturated &amp; unsatur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54240" y="1981080"/>
            <a:ext cx="483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2639880"/>
            <a:ext cx="77724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hospholip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2639880"/>
            <a:ext cx="77724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unctional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dr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b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2214720"/>
            <a:ext cx="77724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at (triglyceri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2214720"/>
            <a:ext cx="77724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asic unit of a pro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formed between 2 amino acids in a pro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eptid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mino acids are there in total?  How many are “essential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 (8 are essent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2000160"/>
            <a:ext cx="7772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 amino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2000160"/>
            <a:ext cx="7772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591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olypep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591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itrogenous base pairs with A (adenin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 (thym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itrogenous base pairs with G (guanin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 (cytos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differen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44840" y="1981080"/>
            <a:ext cx="405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unctional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bo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lfhydr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NA single-stranded, has uracil (not thymine), has ribose (not deoxyribose), involved in protein synthesis but only the hereditary material of some 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NA double-stranded, has thymine, has deoxyribose, hereditary material, involved in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2400" y="1981080"/>
            <a:ext cx="475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(deoxyribo)nucleo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2400" y="1981080"/>
            <a:ext cx="475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49400" y="1981080"/>
            <a:ext cx="34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carboxyl, carbonyl, hydroxy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49400" y="1981080"/>
            <a:ext cx="34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4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arbon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4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47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7:34:16Z</dcterms:created>
  <dc:creator>rubina khan</dc:creator>
  <dc:description/>
  <dc:language>en-US</dc:language>
  <cp:lastModifiedBy>rubina khan</cp:lastModifiedBy>
  <dcterms:modified xsi:type="dcterms:W3CDTF">2012-09-24T16:05:41Z</dcterms:modified>
  <cp:revision>81</cp:revision>
  <dc:subject/>
  <dc:title>Carbohydrate Review</dc:title>
</cp:coreProperties>
</file>